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FAA6-DFE4-427A-8FEB-3CEDB54617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A89-9DCF-457C-B5E7-63423FD5635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311-2C6D-416A-9040-7B0AA482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6E2-8BF7-44B8-9AEA-041511B1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113-1D3A-4A4C-B805-3DDE95EB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505-60EB-485A-812A-34DADB30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DFAD-1F2D-4070-991B-832BBAA0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E971-CE1E-47BB-97C8-A35F6E94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EBE2-4AA6-4B2C-995C-1976C59B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AD1C-2355-4D73-81DE-A3D210F6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CB80-A0DF-4778-8117-9AF36B31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B499-067F-4044-AF39-AB2459E7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9F1F-602A-4799-A5F2-FCE07736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A67-CAEE-40C5-B8CC-AAA62111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3C19-6F1B-44F2-B630-1D759332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6EF8-5B9B-4A2D-8F94-6D4B6ABE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6B4D-C3C0-40E8-916E-BAF8033B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7154-AB8A-483E-86E1-B6E2B2EA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9174-2F72-4FE3-9374-D6D8EE41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E61-B298-4A62-A1E6-6253D69C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413-A6DC-433B-8A1E-B94A8C23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50F-79DC-442A-AC07-7549590C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EA1-5037-4251-BC71-3BD990CD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177-909E-469C-BFB1-409B18B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7EA-D055-4AF9-8987-F5B1759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89E-691B-4695-B553-6A777E35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13AC-16A6-4F91-9F14-9E9D3D19A3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E404-D571-41C8-8534-9FE5F9AB0C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Me llamo _______ Clase 6nh(602)</a:t>
            </a:r>
            <a:br>
              <a:rPr sz="4000"/>
            </a:b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La fecha es el 3 de junio del 201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Propósito # 69: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¿Te gusta viaja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Write a Spanish sentence using the following phras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 carro (en coch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 tax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 el bus esco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r a p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10080" y="167652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622840" y="1784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o p. 80-8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sajeros- passeng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sala de espera- waiting r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VERB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sar – to che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cer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(un viaj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to mak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(a trip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turar- to check 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ner- to put 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perar- to wa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lir- to go out/lea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ordar- to bo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barcar- to embark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a y respon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Historieta 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.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57200" y="380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9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4:18:37Z</dcterms:created>
  <dc:creator>Helen Zumaeta</dc:creator>
  <dc:description/>
  <dc:language>en-US</dc:language>
  <cp:lastModifiedBy>Helen Zumaeta</cp:lastModifiedBy>
  <dcterms:modified xsi:type="dcterms:W3CDTF">2013-06-03T13:46:55Z</dcterms:modified>
  <cp:revision>16</cp:revision>
  <dc:subject/>
  <dc:title>Me llamo _______ Clase 8 IM La fecha es el 11 de octubre del 2011</dc:title>
</cp:coreProperties>
</file>